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26320"/>
        <c:axId val="39975935"/>
      </c:barChart>
      <c:catAx>
        <c:axId val="33726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75935"/>
        <c:crosses val="autoZero"/>
        <c:auto val="1"/>
        <c:lblAlgn val="ctr"/>
        <c:lblOffset val="100"/>
        <c:noMultiLvlLbl val="0"/>
      </c:catAx>
      <c:valAx>
        <c:axId val="39975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26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ADF-CC6C-439D-97FB-440BBD9E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7F3-C136-44DE-8B24-AC54588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B5A-CA5B-4A44-8F2F-FEC57B53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2A1-CCFB-4757-8D9B-785014B9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FC8-F11B-488F-8532-5D97E60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637-3D6B-4EE6-AE5E-CD051140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AA0-85A2-479F-96E8-B4E0199C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2EB-46F3-48E9-B06E-E54BF09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E6-D474-4DF5-A4F3-A5746324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48C-F584-493C-A076-A002AE4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3A5-8BCF-48B2-9210-E55BA1B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E0C-2122-40E9-A486-FF8BFE5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AA16-26E9-43D1-A768-30EE3EC4B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